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8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5A26-0BFC-4386-8544-547F61CA5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B271-6E63-41A8-83DC-1AA3D5C60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297E-63BF-44A7-A257-4BE2DA4F3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3320-691D-4F91-814E-3E59D680E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EB9DF-DDFA-4D57-BDC4-E26616F2F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ACDA5-8B59-4253-AC1D-C00623186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B1FBD-3F26-4BCE-85F4-42F4DE3C2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5C041-223E-4D24-834F-DDAB96908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BE004-8348-4BD3-9A5B-9EF5CA852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A42B4-AAA6-4F1D-8A1E-2831EA187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ABF80-1BFE-4A17-80A5-E7DE910F6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BB8E-3150-4A8E-81B8-E5F11100A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6007D-AAB2-4BAF-967C-BA9B80302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4B8A2-280F-4245-AB49-D701F919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3CF9F-CB9E-4D3D-B593-8F37956F3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876D8-70BC-4800-BEE8-191A90DE2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48577-5EBE-48B0-9966-A5DD5F173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6B96-1A5D-40FB-90BB-F84A96287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27CD-84D8-4DD7-864A-470F40701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6D74-5D2D-49B3-92C3-23C87543B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A88A-06CD-4DE8-BF13-F8A40E454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1FF4-FF82-4DEA-AC2A-FFE904553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C05E-4879-4345-9F38-8084208B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893C-2A64-436F-9E0C-76D496E15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E814C-9081-4EBE-B4CE-BB7922026B9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7DF4E-67D9-4CD2-9419-4C360B3D2DF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chenrycountyblog.com/uploaded_images/Lizard-green%2520-%2520upside%2520down-751819.jpg&amp;imgrefurl=http://www.mchenrycountyblog.com/2006_09_01_mchenrycountyblog_archive.html&amp;h=363&amp;w=340&amp;sz=23&amp;hl=en&amp;start=5&amp;tbnid=KXgYrQX2On8PXM:&amp;tbnh=121&amp;tbnw=113&amp;prev=/images%3Fq%3Dlizards%26gbv%3D2%26hl%3Den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eastafricadreams.com/images/1299_tsavo_east/2912/14_lizards.jpg&amp;imgrefurl=http://www.eastafricadreams.com/291299_aruba.html&amp;h=415&amp;w=553&amp;sz=29&amp;hl=en&amp;start=16&amp;tbnid=i9-KcdCgnkJOTM:&amp;tbnh=100&amp;tbnw=133&amp;prev=/images%3Fq%3Dlizards%26gbv%3D2%26hl%3Den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hyperlink" Target="http://images.google.com/imgres?imgurl=http://www.pbs.org/wnet/nature/reptiles/images/wallpaper/lizards_large.jpg&amp;imgrefurl=http://www.pbs.org/wnet/nature/reptiles/lizards.html&amp;h=768&amp;w=1024&amp;sz=401&amp;hl=en&amp;start=4&amp;tbnid=GtnlZbO3f84yxM:&amp;tbnh=113&amp;tbnw=150&amp;prev=/images%3Fq%3Dlizards%26gbv%3D2%26hl%3Den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orldanimalfoundation.homestead.com/010226_0667_0025_lslp.jpg&amp;imgrefurl=http://worldanimalfoundation.homestead.com/AdoptAKomodoDragon.html&amp;h=553&amp;w=572&amp;sz=88&amp;hl=en&amp;start=1&amp;tbnid=5VMP0YCt6GCDTM:&amp;tbnh=130&amp;tbnw=134&amp;prev=/images%3Fq%3Dlizards%26gbv%3D2%26hl%3Den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Lizard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:  Jul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343400" y="3352680"/>
            <a:ext cx="365760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Today I’m going to tell you about lizards.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3276720"/>
            <a:ext cx="2138400" cy="25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Lizards have about 3,000 Species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666880" y="2819520"/>
            <a:ext cx="365760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Some of the lizards can scare a cat away.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will make a cat jump u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33920" y="3505320"/>
            <a:ext cx="24858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Some lizards look like a leaf </a:t>
            </a:r>
            <a:br>
              <a:rPr sz="4000"/>
            </a:b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sometimes if a prediter is out.</a:t>
            </a: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0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y will hide in the leav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910040" y="2814480"/>
          <a:ext cx="3699000" cy="24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10040" y="2814480"/>
                    <a:ext cx="3699000" cy="24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81480" y="3886200"/>
            <a:ext cx="29527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ome lizards eat bugs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th its long tongue it can take the bugs and eat the bug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43400" y="4114800"/>
            <a:ext cx="249552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ome lizards are big and </a:t>
            </a: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mall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mall lizards look like a cat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g lizards are big like a do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486400" y="3962520"/>
            <a:ext cx="255276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 hope you like to learn about lizards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38098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2:47:23Z</dcterms:created>
  <dc:creator>kkaiser</dc:creator>
  <dc:description/>
  <dc:language>en-US</dc:language>
  <cp:lastModifiedBy>JATKINSO</cp:lastModifiedBy>
  <dcterms:modified xsi:type="dcterms:W3CDTF">2008-02-22T18:15:12Z</dcterms:modified>
  <cp:revision>4</cp:revision>
  <dc:subject/>
  <dc:title>Animal Name</dc:title>
</cp:coreProperties>
</file>